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D6FA-4179-4CBB-A636-A963C383D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69B9-925C-46CE-8682-FF187069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C6F4-6AA4-4143-A9BE-DC02882A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BD2C-4F7F-42F6-B9FB-8A8E13AE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3A71-399E-45BB-86B2-9F0AAC58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A2F3-DF85-4C38-B102-F75EA42A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0193-301E-4105-8711-347165CE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69A0-26F1-4383-A1E1-F28DFA47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7C7F-AEAB-44BC-B74F-CF896024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231B-D750-40F6-B139-DDD68830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8BFB-0125-435D-B28A-269F8CC8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3998-FD02-4A21-A8C8-92AE3CD5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D296-F10A-499D-9CBA-7D4D63E8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668C-FD50-476B-A7A6-94515F58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90F0-4425-45C4-BFDB-C250DE89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8916-D1AE-4B43-94A0-11FCE00F1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8142-3533-4B8F-AE99-24A8ABD7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3358-536A-41AB-9F61-55E4C9BF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817D-19CF-47D2-900F-88E9F1C4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DA7E-FF2A-4B2D-9E72-72E6E1AE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9946-C2A8-4CB1-AF7B-B50ABB74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6D4B-4421-495F-AF15-E9AC3A9F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16AF-A4B3-4467-A620-8B5BB52F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823D-EFBA-40BB-84E6-E4A31C6E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9F8B-3CF8-43D7-9179-C4463AF0E11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00B3-0AC1-459F-8D97-636F1265678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b2b2b2"/>
                </a:solidFill>
                <a:latin typeface="Times New Roman"/>
              </a:rPr>
              <a:t>EARTH</a:t>
            </a:r>
            <a:endParaRPr b="0" lang="en-US" sz="10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1436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2b2b2"/>
                </a:solidFill>
                <a:latin typeface="Times New Roman"/>
              </a:rPr>
              <a:t>Slide 8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eral                         Crys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3962520" cy="2792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809880" y="2057400"/>
            <a:ext cx="480060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2b2b2"/>
                </a:solidFill>
                <a:latin typeface="Times New Roman"/>
              </a:rPr>
              <a:t>Slide 9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eral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8374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2b2b2"/>
                </a:solidFill>
                <a:latin typeface="Times New Roman"/>
              </a:rPr>
              <a:t>Slide 10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dimentary R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333360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2b2b2"/>
                </a:solidFill>
                <a:latin typeface="Times New Roman"/>
              </a:rPr>
              <a:t>Slide 11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gneous r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14600" y="2438280"/>
            <a:ext cx="41241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2b2b2"/>
                </a:solidFill>
                <a:latin typeface="Times New Roman"/>
              </a:rPr>
              <a:t>Slide 12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morphic r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5133960" cy="41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2b2b2"/>
                </a:solidFill>
                <a:latin typeface="Times New Roman"/>
              </a:rPr>
              <a:t>Slide 1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66294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2b2b2"/>
                </a:solidFill>
                <a:latin typeface="Times New Roman"/>
              </a:rPr>
              <a:t>Slide 2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686800" y="6130440"/>
            <a:ext cx="7632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114800" y="1838160"/>
            <a:ext cx="4876920" cy="2635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3041640" cy="3800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276720" y="4605480"/>
            <a:ext cx="289548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2b2b2"/>
                </a:solidFill>
                <a:latin typeface="Times New Roman"/>
              </a:rPr>
              <a:t>Slide 3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563868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2b2b2"/>
                </a:solidFill>
                <a:latin typeface="Times New Roman"/>
              </a:rPr>
              <a:t>Slide 4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3431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2b2b2"/>
                </a:solidFill>
                <a:latin typeface="Times New Roman"/>
              </a:rPr>
              <a:t>Slide 5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iding Boundaries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4864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2b2b2"/>
                </a:solidFill>
                <a:latin typeface="Times New Roman"/>
              </a:rPr>
              <a:t>Slide 6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and Epicenter       Magnitude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038480" cy="2617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285300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2b2b2"/>
                </a:solidFill>
                <a:latin typeface="Times New Roman"/>
              </a:rPr>
              <a:t>slide 6 still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thquake in Jap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65340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2b2b2"/>
                </a:solidFill>
                <a:latin typeface="Times New Roman"/>
              </a:rPr>
              <a:t>Slide 7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617220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7:59:02Z</dcterms:created>
  <dc:creator>mbifano</dc:creator>
  <dc:description/>
  <dc:language>en-US</dc:language>
  <cp:lastModifiedBy>mbifano</cp:lastModifiedBy>
  <dcterms:modified xsi:type="dcterms:W3CDTF">2011-03-17T18:05:50Z</dcterms:modified>
  <cp:revision>6</cp:revision>
  <dc:subject/>
  <dc:title>Slide 1</dc:title>
</cp:coreProperties>
</file>